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0.jpeg" ContentType="image/jpe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562B-BEF5-47C7-A3F7-A2B213CB4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8CF6-B33E-481E-BA3D-EDB8D5C4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C4B9-A619-4509-AAB8-1B254A64B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3B5C-60D0-424F-AC93-9DF3640B5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B0BD2C-E685-46B1-9FF7-1DF3822A1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23E230-9083-4A2B-98DB-EE710D247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2F6DF9-0871-4EC6-884B-767242DEC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E19F1E-5970-4E90-AC88-AC974BB38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0F2FFF-E481-410E-A32B-FB262DB57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86CFBC-7CB2-469A-AB3F-3C016C594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8C8809-209F-4B5B-BDFE-5ADE8138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5FDD-B746-4101-A4DC-D0E18ACAE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92D397-0112-45D3-A473-4C101DED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27EB7D-7A18-4C82-A0E4-E0708596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5759E1-28A0-4C8C-9148-66E4A030C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944E80-6455-4D0D-9D9A-6CD19C8BD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9048B9-4473-4E54-B7E2-BE28FA986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E27DE-70BE-4F46-907A-A14F1DD30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90867-5C1D-4D76-87F3-CEAB3377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AE719-7008-447B-8CF8-E0295D625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5B3B8-78F9-418E-855A-426E16C70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5B7C0-885E-44A2-B87D-1BB17CB1C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DFF7-B183-4170-801F-AE571BD8E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2C6D2-2B32-4DA3-B971-DDB99CD9A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5FBF1-9DD1-4D39-BB3F-5E79AFE2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6A16C-B5B7-48D8-86C4-F1BDA6BD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DE056-C2BD-4ABB-97C4-1900E96D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0B5D8-D029-48B7-BCA3-12BAFCCD6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95286-981C-4FD0-B5C9-3E8E6BC1D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1F457-18A4-4A8C-91C7-378FD1DCB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DDD0-9572-4953-AE1A-5B1A1CCAC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6EFB-9056-47AC-A742-88A34DB6D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1837-529F-400A-8405-6AADB1576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15AF-A820-47EA-8B78-4199DAE8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CC9F-F1ED-4FED-A2FF-06409562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1624-033E-4744-BCBD-5EB8CC49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s://presentation-creation.ru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s://presentation-creation.ru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s://presentation-creation.ru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7A485-8FC6-4666-B4EE-EA28180FB5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Рисунок 6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3343320" y="-639720"/>
            <a:ext cx="758880" cy="757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6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3343320" y="-639720"/>
            <a:ext cx="758880" cy="75708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14"/>
          <p:cNvSpPr/>
          <p:nvPr/>
        </p:nvSpPr>
        <p:spPr>
          <a:xfrm>
            <a:off x="903240" y="-247680"/>
            <a:ext cx="5751720" cy="2019240"/>
          </a:xfrm>
          <a:prstGeom prst="rect">
            <a:avLst/>
          </a:prstGeom>
          <a:solidFill>
            <a:srgbClr val="dac1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11"/>
          <p:cNvSpPr/>
          <p:nvPr/>
        </p:nvSpPr>
        <p:spPr>
          <a:xfrm>
            <a:off x="4861080" y="6346800"/>
            <a:ext cx="24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3eade"/>
                </a:solidFill>
                <a:latin typeface="Calibri"/>
              </a:rPr>
              <a:t>presentation-creation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7"/>
          <p:cNvSpPr/>
          <p:nvPr/>
        </p:nvSpPr>
        <p:spPr>
          <a:xfrm rot="5400000">
            <a:off x="11142360" y="890280"/>
            <a:ext cx="24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e6"/>
                </a:solidFill>
                <a:latin typeface="Calibri"/>
              </a:rPr>
              <a:t>presentation-creation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ая соединительная линия 9"/>
          <p:cNvSpPr/>
          <p:nvPr/>
        </p:nvSpPr>
        <p:spPr>
          <a:xfrm>
            <a:off x="504720" y="231840"/>
            <a:ext cx="0" cy="283680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ая соединительная линия 12"/>
          <p:cNvSpPr/>
          <p:nvPr/>
        </p:nvSpPr>
        <p:spPr>
          <a:xfrm>
            <a:off x="325440" y="484200"/>
            <a:ext cx="3090960" cy="0"/>
          </a:xfrm>
          <a:prstGeom prst="line">
            <a:avLst/>
          </a:prstGeom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27"/>
          <p:cNvSpPr/>
          <p:nvPr/>
        </p:nvSpPr>
        <p:spPr>
          <a:xfrm>
            <a:off x="11661840" y="231840"/>
            <a:ext cx="0" cy="283680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28"/>
          <p:cNvSpPr/>
          <p:nvPr/>
        </p:nvSpPr>
        <p:spPr>
          <a:xfrm>
            <a:off x="8834400" y="484200"/>
            <a:ext cx="3089160" cy="0"/>
          </a:xfrm>
          <a:prstGeom prst="line">
            <a:avLst/>
          </a:prstGeom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87952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87952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87952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C78D2-401F-44D7-97C2-CA14812B6349}" type="slidenum">
              <a:rPr b="0" lang="ru-RU" sz="1200" spc="-1" strike="noStrike">
                <a:solidFill>
                  <a:srgbClr val="88795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3eade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eade"/>
                </a:solidFill>
                <a:latin typeface="Calibri"/>
              </a:rPr>
              <a:t>presentation-creation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6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3343320" y="-639720"/>
            <a:ext cx="758880" cy="757080"/>
          </a:xfrm>
          <a:prstGeom prst="rect">
            <a:avLst/>
          </a:prstGeom>
          <a:ln w="0">
            <a:noFill/>
          </a:ln>
        </p:spPr>
      </p:pic>
      <p:sp>
        <p:nvSpPr>
          <p:cNvPr id="92" name="Прямая соединительная линия 10"/>
          <p:cNvSpPr/>
          <p:nvPr/>
        </p:nvSpPr>
        <p:spPr>
          <a:xfrm>
            <a:off x="504720" y="360360"/>
            <a:ext cx="0" cy="112392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ая соединительная линия 11"/>
          <p:cNvSpPr/>
          <p:nvPr/>
        </p:nvSpPr>
        <p:spPr>
          <a:xfrm>
            <a:off x="325440" y="468360"/>
            <a:ext cx="1166760" cy="0"/>
          </a:xfrm>
          <a:prstGeom prst="line">
            <a:avLst/>
          </a:prstGeom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ая соединительная линия 12"/>
          <p:cNvSpPr/>
          <p:nvPr/>
        </p:nvSpPr>
        <p:spPr>
          <a:xfrm>
            <a:off x="11769840" y="5219640"/>
            <a:ext cx="0" cy="112572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ая соединительная линия 13"/>
          <p:cNvSpPr/>
          <p:nvPr/>
        </p:nvSpPr>
        <p:spPr>
          <a:xfrm>
            <a:off x="10771200" y="6257880"/>
            <a:ext cx="1165320" cy="0"/>
          </a:xfrm>
          <a:prstGeom prst="line">
            <a:avLst/>
          </a:prstGeom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ая соединительная линия 14"/>
          <p:cNvSpPr/>
          <p:nvPr/>
        </p:nvSpPr>
        <p:spPr>
          <a:xfrm>
            <a:off x="11769840" y="360360"/>
            <a:ext cx="0" cy="112392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ая соединительная линия 15"/>
          <p:cNvSpPr/>
          <p:nvPr/>
        </p:nvSpPr>
        <p:spPr>
          <a:xfrm>
            <a:off x="10771200" y="466560"/>
            <a:ext cx="1165320" cy="0"/>
          </a:xfrm>
          <a:prstGeom prst="line">
            <a:avLst/>
          </a:prstGeom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ая соединительная линия 16"/>
          <p:cNvSpPr/>
          <p:nvPr/>
        </p:nvSpPr>
        <p:spPr>
          <a:xfrm>
            <a:off x="325440" y="6257880"/>
            <a:ext cx="1166760" cy="0"/>
          </a:xfrm>
          <a:prstGeom prst="line">
            <a:avLst/>
          </a:prstGeom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17"/>
          <p:cNvSpPr/>
          <p:nvPr/>
        </p:nvSpPr>
        <p:spPr>
          <a:xfrm>
            <a:off x="503280" y="5219640"/>
            <a:ext cx="0" cy="112572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262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26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262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929E-1A53-4724-8B9C-BB1D25498D90}" type="slidenum">
              <a:rPr b="0" lang="ru-RU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17120" y="316080"/>
            <a:ext cx="10936440" cy="26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262626"/>
                </a:solidFill>
                <a:latin typeface="Arial"/>
                <a:ea typeface="Arial"/>
              </a:rPr>
              <a:t>Формулы площади и периметра фигур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42" name="Picture 5" descr="Picture background"/>
          <p:cNvPicPr/>
          <p:nvPr/>
        </p:nvPicPr>
        <p:blipFill>
          <a:blip r:embed="rId1"/>
          <a:stretch/>
        </p:blipFill>
        <p:spPr>
          <a:xfrm>
            <a:off x="1081080" y="2744640"/>
            <a:ext cx="5037120" cy="3722760"/>
          </a:xfrm>
          <a:prstGeom prst="rect">
            <a:avLst/>
          </a:prstGeom>
          <a:ln w="0">
            <a:noFill/>
          </a:ln>
        </p:spPr>
      </p:pic>
      <p:sp>
        <p:nvSpPr>
          <p:cNvPr id="143" name="Прямоугольник 1"/>
          <p:cNvSpPr/>
          <p:nvPr/>
        </p:nvSpPr>
        <p:spPr>
          <a:xfrm>
            <a:off x="7331040" y="2644920"/>
            <a:ext cx="39736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Ученица 5А класс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рбузина Светла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Руководитель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ь математ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лшукова Татьяна Борис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5597"/>
                </a:solidFill>
                <a:latin typeface="Times New Roman"/>
                <a:ea typeface="DejaVu Sans"/>
              </a:rPr>
              <a:t>РЕЗУЛЬТАТЫ, ПОЛУЧЕННЫЕ ПРИ РЕШЕНИИ ПЯТОЙ ЗАДАЧИ «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DejaVu Sans"/>
              </a:rPr>
              <a:t>Подготовить выводы о значении изучения формул площади и периметра в повседневной жизни»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Times New Roman"/>
                <a:ea typeface="MS Mincho"/>
              </a:rPr>
              <a:t>Применение в дизайне интерьер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MS Mincho"/>
              </a:rPr>
              <a:t>-планировка простран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MS Mincho"/>
              </a:rPr>
              <a:t>-определение функциональных з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MS Mincho"/>
              </a:rPr>
              <a:t>-выбор мебели и деко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MS Mincho"/>
              </a:rPr>
              <a:t>-оптимизация освещ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MS Mincho"/>
              </a:rPr>
              <a:t>-расчёт отделочных материал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MS Mincho"/>
              </a:rPr>
              <a:t>-создание визуального балан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MS Mincho"/>
              </a:rPr>
              <a:t>-учёт строительных нор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5" descr=""/>
          <p:cNvPicPr/>
          <p:nvPr/>
        </p:nvPicPr>
        <p:blipFill>
          <a:blip r:embed="rId1"/>
          <a:stretch/>
        </p:blipFill>
        <p:spPr>
          <a:xfrm>
            <a:off x="7680240" y="2959200"/>
            <a:ext cx="3708360" cy="2709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ЕНИЕ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аключение, можно сказать, что изучение формул площади и периметра различных фигур имеет не только теоретическое, но и практическое значение. Эти знания формируют основу для дальнейшего изучения геометрии и математики в целом, а также развивают критическое мышление и практические навыки учащихс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данное исследование подчеркивает значимость математического образования и его влияние на развитие практических навыков, что является необходимым для успешного обучения и подготовки к будущей профессиональной деятель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Заголовок 9"/>
          <p:cNvSpPr/>
          <p:nvPr/>
        </p:nvSpPr>
        <p:spPr>
          <a:xfrm>
            <a:off x="2401920" y="2157480"/>
            <a:ext cx="7226280" cy="11509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27422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17120" y="316080"/>
            <a:ext cx="10936440" cy="26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262626"/>
                </a:solidFill>
                <a:latin typeface="Arial"/>
                <a:ea typeface="Arial"/>
              </a:rPr>
              <a:t>Формулы площади и периметра фигур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75" name="Picture 5" descr="Picture background"/>
          <p:cNvPicPr/>
          <p:nvPr/>
        </p:nvPicPr>
        <p:blipFill>
          <a:blip r:embed="rId1"/>
          <a:stretch/>
        </p:blipFill>
        <p:spPr>
          <a:xfrm>
            <a:off x="1081080" y="2744640"/>
            <a:ext cx="5037120" cy="3722760"/>
          </a:xfrm>
          <a:prstGeom prst="rect">
            <a:avLst/>
          </a:prstGeom>
          <a:ln w="0">
            <a:noFill/>
          </a:ln>
        </p:spPr>
      </p:pic>
      <p:sp>
        <p:nvSpPr>
          <p:cNvPr id="176" name="Прямоугольник 1"/>
          <p:cNvSpPr/>
          <p:nvPr/>
        </p:nvSpPr>
        <p:spPr>
          <a:xfrm>
            <a:off x="7331040" y="2644920"/>
            <a:ext cx="39736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Ученица 5А класс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рбузина Светла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Руководитель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ь математ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лшукова Татьяна Борис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 Light"/>
              </a:rPr>
              <a:t>АКТУАЛЬНОСТЬ ТЕМЫ ИССЛЕДОВАНИЯ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современном мире математика играет ключевую роль в различных областях человеческой деятельности, включая архитектуру, дизайн, инженерное дело и повседневную жизнь. Умение правильно рассчитывать площадь и периметр позволяет оптимизировать использование материалов и пространства, что особенно актуально в условиях ограниченных ресурсов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4" descr="Picture background"/>
          <p:cNvPicPr/>
          <p:nvPr/>
        </p:nvPicPr>
        <p:blipFill>
          <a:blip r:embed="rId1"/>
          <a:stretch/>
        </p:blipFill>
        <p:spPr>
          <a:xfrm>
            <a:off x="7746840" y="4356000"/>
            <a:ext cx="3864240" cy="2273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838080" y="864720"/>
            <a:ext cx="1051560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5597"/>
                </a:solidFill>
                <a:latin typeface="Times New Roman"/>
                <a:ea typeface="DejaVu Sans"/>
              </a:rPr>
              <a:t>Объект исследования </a:t>
            </a:r>
            <a:r>
              <a:rPr b="1" lang="ru-RU" sz="2800" spc="-1" strike="noStrike">
                <a:solidFill>
                  <a:srgbClr val="2f5597"/>
                </a:solidFill>
                <a:latin typeface="Arial"/>
                <a:ea typeface="DejaVu Sans"/>
              </a:rPr>
              <a:t>-</a:t>
            </a:r>
            <a:r>
              <a:rPr b="0" lang="ru-RU" sz="2800" spc="-1" strike="noStrike">
                <a:solidFill>
                  <a:srgbClr val="262626"/>
                </a:solidFill>
                <a:latin typeface="Times New Roman"/>
                <a:ea typeface="MS Mincho"/>
              </a:rPr>
              <a:t> геометрические фигуры, такие как квадрат, прямоугольник, треугольник, параллелограмм, трапеция, ромб, окружность и круг, а также формулы, используемые для расчета их площади и перимет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5597"/>
                </a:solidFill>
                <a:latin typeface="Times New Roman"/>
                <a:ea typeface="DejaVu Sans"/>
              </a:rPr>
              <a:t>Предмет</a:t>
            </a:r>
            <a:r>
              <a:rPr b="1" lang="ru-RU" sz="2800" spc="-1" strike="noStrike">
                <a:solidFill>
                  <a:srgbClr val="2f5597"/>
                </a:solidFill>
                <a:latin typeface="Arial"/>
                <a:ea typeface="DejaVu Sans"/>
              </a:rPr>
              <a:t> - </a:t>
            </a:r>
            <a:r>
              <a:rPr b="0" lang="ru-RU" sz="2800" spc="-1" strike="noStrike">
                <a:solidFill>
                  <a:srgbClr val="262626"/>
                </a:solidFill>
                <a:latin typeface="Times New Roman"/>
                <a:ea typeface="MS Mincho"/>
              </a:rPr>
              <a:t>формулы площади и периметра различных фигур, их вывод, применение и значение в практической деятельности, а также влияние на архитектурные и дизайнерские реш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5597"/>
                </a:solidFill>
                <a:latin typeface="Times New Roman"/>
                <a:ea typeface="DejaVu Sans"/>
              </a:rPr>
              <a:t>   </a:t>
            </a:r>
            <a:r>
              <a:rPr b="1" lang="ru-RU" sz="2800" spc="-1" strike="noStrike">
                <a:solidFill>
                  <a:srgbClr val="2f5597"/>
                </a:solidFill>
                <a:latin typeface="Times New Roman"/>
                <a:ea typeface="DejaVu Sans"/>
              </a:rPr>
              <a:t>Цель </a:t>
            </a:r>
            <a:r>
              <a:rPr b="1" lang="ru-RU" sz="2800" spc="-1" strike="noStrike">
                <a:solidFill>
                  <a:srgbClr val="2f5597"/>
                </a:solidFill>
                <a:latin typeface="Arial"/>
                <a:ea typeface="DejaVu Sans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зация знаний о формулах площади и периметра различных геометрических фигур, а также исследование их применения в архитектуре и дизайн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7466040" y="4967280"/>
            <a:ext cx="3490920" cy="1708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5597"/>
                </a:solidFill>
                <a:latin typeface="Times New Roman"/>
                <a:ea typeface="DejaVu Sans"/>
              </a:rPr>
              <a:t>ЗАДАЧИ ИССЛЕДОВАН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пределить и описать основные понятия, связанные с площадью и периметр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иск формул для расчета площади и периметра квадрата, прямоугольника, треугольника, параллелограмма, ромба, трапеции, окружности  и круг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ровести сравнительный анализ формул площади и периметра различных фигу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Рассмотреть примеры применения этих формул в архитектурных и дизайнерских проекта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одготовить выводы о значении изучения формул площади и периметра в повседневной жиз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1"/>
          <a:stretch/>
        </p:blipFill>
        <p:spPr>
          <a:xfrm>
            <a:off x="9677520" y="5353200"/>
            <a:ext cx="2176200" cy="1504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14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2f5597"/>
                </a:solidFill>
                <a:latin typeface="Times New Roman"/>
                <a:ea typeface="DejaVu Sans"/>
              </a:rPr>
              <a:t>РЕЗУЛЬТАТЫ, ПОЛУЧЕННЫЕ ПРИ РЕШЕНИИ ПЕРВОЙ ЗАДАЧИ «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пределить и описать основные понятия, связанные с площадью и периметром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ы для расчета площади и периметра геометрических фигур играют ключевую роль в математике и повседневной жизни. Они необходимы для решения множества практических задач, связанных с измерением и оценкой пространства, а также для более глубокого понимания геометрических концепци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нимание основных геометрических понят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актическое примен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Экономия ресурс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Развитие логического мышл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одготовка к более сложным математическим концепция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5" descr="Picture background"/>
          <p:cNvPicPr/>
          <p:nvPr/>
        </p:nvPicPr>
        <p:blipFill>
          <a:blip r:embed="rId1"/>
          <a:stretch/>
        </p:blipFill>
        <p:spPr>
          <a:xfrm>
            <a:off x="8935920" y="3846600"/>
            <a:ext cx="2651400" cy="1673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3353040" cy="515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5597"/>
                </a:solidFill>
                <a:latin typeface="Times New Roman"/>
                <a:ea typeface="DejaVu Sans"/>
              </a:rPr>
              <a:t>    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2f5597"/>
                </a:solidFill>
                <a:latin typeface="Times New Roman"/>
                <a:ea typeface="DejaVu Sans"/>
              </a:rPr>
              <a:t> </a:t>
            </a:r>
            <a:r>
              <a:rPr b="1" lang="ru-RU" sz="2800" spc="-1" strike="noStrike">
                <a:solidFill>
                  <a:srgbClr val="2f5597"/>
                </a:solidFill>
                <a:latin typeface="Times New Roman"/>
                <a:ea typeface="DejaVu Sans"/>
              </a:rPr>
              <a:t>РЕЗУЛЬТАТЫ,</a:t>
            </a:r>
            <a:br>
              <a:rPr sz="2800"/>
            </a:br>
            <a:r>
              <a:rPr b="1" lang="ru-RU" sz="2800" spc="-1" strike="noStrike">
                <a:solidFill>
                  <a:srgbClr val="2f5597"/>
                </a:solidFill>
                <a:latin typeface="Times New Roman"/>
                <a:ea typeface="DejaVu Sans"/>
              </a:rPr>
              <a:t>ПОЛУЧЕННЫЕ ПРИ РЕШЕНИИ ВТОРОЙ ЗАДАЧИ «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иск формул для расчета площади и периметра квадрата, прямоугольника, треугольника, параллелограмма, ромба, трапеции, окружности и круга»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57" name="Picture 5" descr="Picture background"/>
          <p:cNvPicPr/>
          <p:nvPr/>
        </p:nvPicPr>
        <p:blipFill>
          <a:blip r:embed="rId1"/>
          <a:stretch/>
        </p:blipFill>
        <p:spPr>
          <a:xfrm>
            <a:off x="4603680" y="0"/>
            <a:ext cx="7588440" cy="6829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2f5597"/>
                </a:solidFill>
                <a:latin typeface="Times New Roman"/>
                <a:ea typeface="DejaVu Sans"/>
              </a:rPr>
              <a:t>РЕЗУЛЬТАТЫ, ПОЛУЧЕННЫЕ ПРИ РЕШЕНИИ ТРЕТЬЕЙ ЗАДАЧИ «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вести сравнительный анализ формул площади и периметра различных фигур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сновополагающая роль в математик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MS Mincho"/>
              </a:rPr>
              <a:t>Широкое практическое примен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MS Mincho"/>
              </a:rPr>
              <a:t>Экономия ресурсов и време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MS Mincho"/>
              </a:rPr>
              <a:t>Развитие аналитических навык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MS Mincho"/>
              </a:rPr>
              <a:t>Подготовка к более сложным концепция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MS Mincho"/>
              </a:rPr>
              <a:t>Универсальность примен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7148520" y="2712960"/>
            <a:ext cx="4073400" cy="2955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5597"/>
                </a:solidFill>
                <a:latin typeface="Times New Roman"/>
                <a:ea typeface="DejaVu Sans"/>
              </a:rPr>
              <a:t>РЕЗУЛЬТАТЫ, ПОЛУЧЕННЫЕ ПРИ РЕШЕНИИ ЧЕТВЕРТОЙ ЗАДАЧИ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DejaVu Sans"/>
              </a:rPr>
              <a:t>«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DejaVu Sans"/>
              </a:rPr>
              <a:t>Рассмотреть примеры применения этих формул в архитектурных и дизайнерских проектах»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62" name="Picture 5" descr="Picture background"/>
          <p:cNvPicPr/>
          <p:nvPr/>
        </p:nvPicPr>
        <p:blipFill>
          <a:blip r:embed="rId1"/>
          <a:stretch/>
        </p:blipFill>
        <p:spPr>
          <a:xfrm>
            <a:off x="4791240" y="1496880"/>
            <a:ext cx="6819840" cy="513720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7"/>
          <p:cNvSpPr/>
          <p:nvPr/>
        </p:nvSpPr>
        <p:spPr>
          <a:xfrm>
            <a:off x="5943600" y="32767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9" descr="Picture background"/>
          <p:cNvPicPr/>
          <p:nvPr/>
        </p:nvPicPr>
        <p:blipFill>
          <a:blip r:embed="rId2"/>
          <a:stretch/>
        </p:blipFill>
        <p:spPr>
          <a:xfrm>
            <a:off x="698400" y="2066760"/>
            <a:ext cx="4456080" cy="4791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5597"/>
                </a:solidFill>
                <a:latin typeface="Times New Roman"/>
                <a:ea typeface="DejaVu Sans"/>
              </a:rPr>
              <a:t>РЕЗУЛЬТАТЫ, ПОЛУЧЕННЫЕ ПРИ РЕШЕНИИ ПЯТОЙ ЗАДАЧИ «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готовить выводы о значении изучения формул площади и периметра в повседневной жизни»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Times New Roman"/>
                <a:ea typeface="MS Mincho"/>
              </a:rPr>
              <a:t>Применение формул в архитектуре и дизай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MS Mincho"/>
              </a:rPr>
              <a:t>-проектирование зда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MS Mincho"/>
              </a:rPr>
              <a:t>-оптимизация простран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MS Mincho"/>
              </a:rPr>
              <a:t>-расчёт строительных материал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MS Mincho"/>
              </a:rPr>
              <a:t>-энергоэффектив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MS Mincho"/>
              </a:rPr>
              <a:t>-ландшафтный дизай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MS Mincho"/>
              </a:rPr>
              <a:t>-строительные нормы и стандар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6" descr=""/>
          <p:cNvPicPr/>
          <p:nvPr/>
        </p:nvPicPr>
        <p:blipFill>
          <a:blip r:embed="rId1"/>
          <a:stretch/>
        </p:blipFill>
        <p:spPr>
          <a:xfrm>
            <a:off x="8029440" y="2876400"/>
            <a:ext cx="3608640" cy="292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11-04T08:17:15Z</dcterms:created>
  <dc:creator>User Obstinate</dc:creator>
  <dc:description/>
  <dc:language>en-US</dc:language>
  <cp:lastModifiedBy>User</cp:lastModifiedBy>
  <dcterms:modified xsi:type="dcterms:W3CDTF">2025-02-06T07:36:32Z</dcterms:modified>
  <cp:revision>54</cp:revision>
  <dc:subject/>
  <dc:title>Минимализм деловой, шаблон презентации с сайта presentation-creation.ru</dc:title>
</cp:coreProperties>
</file>